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A10B-18C2-4543-B774-30E36EC0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765E-6DAC-4267-BC59-41098769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CDA9-A0F0-411D-8F5F-5EAC6318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171-5C5E-4B38-8B0E-3F0D806F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464C-DE04-4F8E-A1B7-2F521D9F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46A6-FC58-436D-832D-75073089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F41F-1103-4590-8C0F-16AA753B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FC3A-8E05-4CD0-A87C-45F5538A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8E83-B8AC-4221-8C20-D1A40156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B7FE-A608-4241-B517-1EDDDCF4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836E-4687-4A61-ADC7-7F2B3D39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0A1-8B92-4BEB-8B45-62B27551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3471-95F2-4CFF-A6D3-3BCFE96C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8602-7C53-4964-8BD6-8402F452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A764-41D1-4372-AF7B-8203F740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83CC-593F-435D-BAA8-9E33267E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E943-21AC-4613-B783-D1ED466F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0EC4-7AD4-4E4F-AC2C-51ABF2DE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71F3-8259-42BB-9FAD-373888F0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B82-FF89-41AF-B6A1-5E0F8608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38C2-45F7-4735-8454-162C81FD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958-2271-4852-915D-EF493D25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312-7370-4276-81AF-D8E77383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A6F8-3DFB-47DF-AE00-3D232836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30E5-6659-4298-8A13-50F26268B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0B3E-45ED-4524-92FA-3602D894A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lice_Springs,_Northern_Territory" TargetMode="External"/><Relationship Id="rId2" Type="http://schemas.openxmlformats.org/officeDocument/2006/relationships/hyperlink" Target="http://en.wikipedia.org/wiki/Birdsville,_Queensland" TargetMode="External"/><Relationship Id="rId3" Type="http://schemas.openxmlformats.org/officeDocument/2006/relationships/hyperlink" Target="http://en.wikipedia.org/wiki/Birdsville,_Queensland" TargetMode="External"/><Relationship Id="rId4" Type="http://schemas.openxmlformats.org/officeDocument/2006/relationships/hyperlink" Target="http://en.wikipedia.org/wiki/Broken_Hill,_New_South_Wales" TargetMode="External"/><Relationship Id="rId5" Type="http://schemas.openxmlformats.org/officeDocument/2006/relationships/hyperlink" Target="http://en.wikipedia.org/wiki/Coober_Pedy,_South_Australia" TargetMode="External"/><Relationship Id="rId6" Type="http://schemas.openxmlformats.org/officeDocument/2006/relationships/hyperlink" Target="http://en.wikipedia.org/wiki/Devils_Marbles" TargetMode="External"/><Relationship Id="rId7" Type="http://schemas.openxmlformats.org/officeDocument/2006/relationships/hyperlink" Target="http://en.wikipedia.org/wiki/Kakadu_National_Park" TargetMode="External"/><Relationship Id="rId8" Type="http://schemas.openxmlformats.org/officeDocument/2006/relationships/hyperlink" Target="http://en.wikipedia.org/wiki/Kakadu_National_Park" TargetMode="External"/><Relationship Id="rId9" Type="http://schemas.openxmlformats.org/officeDocument/2006/relationships/hyperlink" Target="http://en.wikipedia.org/wiki/Kata_Tjuta" TargetMode="External"/><Relationship Id="rId10" Type="http://schemas.openxmlformats.org/officeDocument/2006/relationships/hyperlink" Target="http://en.wikipedia.org/wiki/Kata_Tjuta" TargetMode="External"/><Relationship Id="rId11" Type="http://schemas.openxmlformats.org/officeDocument/2006/relationships/hyperlink" Target="http://en.wikipedia.org/wiki/Kata_Tjuta" TargetMode="External"/><Relationship Id="rId12" Type="http://schemas.openxmlformats.org/officeDocument/2006/relationships/hyperlink" Target="http://en.wikipedia.org/wiki/Kings_Canyon,_Northern_Territory" TargetMode="External"/><Relationship Id="rId13" Type="http://schemas.openxmlformats.org/officeDocument/2006/relationships/hyperlink" Target="http://en.wikipedia.org/wiki/Kings_Canyon,_Northern_Territory" TargetMode="External"/><Relationship Id="rId14" Type="http://schemas.openxmlformats.org/officeDocument/2006/relationships/hyperlink" Target="http://en.wikipedia.org/wiki/Kings_Canyon,_Northern_Territory" TargetMode="External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The Outback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 by Kalyn Kauf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What is the Outback?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utback is an immense, secluded, dry area of Austral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ression “the outback” is used to refer to spots that are relatively more secluded than “the bush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Outback History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1858 and 1861 Jon McDouall Stuart led six journeys into the out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ation of the outback was continued in the 1950s when Len Beadell explored, surveyed and built many roads in support of the nuclear weapons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in 2006, Anna Hingley was the first woman to make the journey riding a ho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Mining In The Outback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ng is one of the other main economic activities in the area, the others being agriculture and tour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ff you can find when you’re mining in the outback are: iron, aluminum, manganese, uranium ores, and you can also find  gold, nickel, iron, lead and zinc 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ajor mining areas are Coober Pedy, Lightning Ridge, White Cliffs, Broken Hill, Tennant Cliff, Olympic Dam, and Challeng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Outback’s Population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riginal homes in the outback areas have not been displaced as they have been in areas of rigorous farming and large cities, in coastal are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a significant proportion of the country's indigenous population lives in the Outba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Outback Terminology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cept “back” country, which meant, land beyond the settled regions, was in existence in 18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rm “outback” was first used in 186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lloquially said that “the outback” was beyond the black stum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ver-Never” is a term referring to remoter parts of the Australian out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Wildlife in the Outback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find kangaroos and dingoes, hiding in bus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see huge flocks budgerigars, cockatoos, corellas, and gala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see various snakes and lizards all over the roa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also see camels and wild horses called ‘brumbies’, pigs, foxes, cats, and some rabb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ouring Site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ow is a list of touring si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Alice Springs, Northern Terri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Birdsville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, Queensl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Broken Hill, New South Wal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oober Pedy, South Australi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Devils Marbl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Kakadu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 National Pa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Kata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0"/>
              </a:rPr>
              <a:t>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1"/>
              </a:rPr>
              <a:t>Tju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The Olg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2"/>
              </a:rPr>
              <a:t>Kings Canyon (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3"/>
              </a:rPr>
              <a:t>Watarrka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4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Donnell Ran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unt Isa, Queensl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unt Augustus National Par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nnant Creek, Northern Terri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llandra Lakes Reg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he End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7:58:38Z</dcterms:created>
  <dc:creator>Classroom/Lab</dc:creator>
  <dc:description/>
  <dc:language>en-US</dc:language>
  <cp:lastModifiedBy>Classroom/Lab</cp:lastModifiedBy>
  <dcterms:modified xsi:type="dcterms:W3CDTF">2010-12-16T17:54:12Z</dcterms:modified>
  <cp:revision>10</cp:revision>
  <dc:subject/>
  <dc:title>The Outback</dc:title>
</cp:coreProperties>
</file>